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1C9E-1AFF-4E4E-AFBA-84F5136EB4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323532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>
            <a:hlinkClick r:id="" action="ppaction://hlinkshowjump?jump=firstslide"/>
          </p:cNvPr>
          <p:cNvSpPr/>
          <p:nvPr/>
        </p:nvSpPr>
        <p:spPr>
          <a:xfrm>
            <a:off x="5838840" y="6108840"/>
            <a:ext cx="17431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4562640" y="6095880"/>
            <a:ext cx="1180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7658280" y="6105600"/>
            <a:ext cx="12315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17.xml"/><Relationship Id="rId5" Type="http://schemas.openxmlformats.org/officeDocument/2006/relationships/slide" Target="slide25.xml"/><Relationship Id="rId6" Type="http://schemas.openxmlformats.org/officeDocument/2006/relationships/slide" Target="slide36.xml"/><Relationship Id="rId7" Type="http://schemas.openxmlformats.org/officeDocument/2006/relationships/slide" Target="slide38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image" Target="../media/image17.jpeg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image" Target="../media/image13.png"/><Relationship Id="rId5" Type="http://schemas.openxmlformats.org/officeDocument/2006/relationships/slide" Target=""/><Relationship Id="rId6" Type="http://schemas.openxmlformats.org/officeDocument/2006/relationships/image" Target="../media/image13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18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" Target="slide28.xml"/><Relationship Id="rId5" Type="http://schemas.openxmlformats.org/officeDocument/2006/relationships/image" Target="../media/image3.png"/><Relationship Id="rId6" Type="http://schemas.openxmlformats.org/officeDocument/2006/relationships/image" Target="../media/image22.png"/><Relationship Id="rId7" Type="http://schemas.openxmlformats.org/officeDocument/2006/relationships/slide" Target=""/><Relationship Id="rId8" Type="http://schemas.openxmlformats.org/officeDocument/2006/relationships/image" Target="../media/image12.png"/><Relationship Id="rId9" Type="http://schemas.openxmlformats.org/officeDocument/2006/relationships/image" Target="../media/image3.png"/><Relationship Id="rId10" Type="http://schemas.openxmlformats.org/officeDocument/2006/relationships/slide" Target=""/><Relationship Id="rId11" Type="http://schemas.openxmlformats.org/officeDocument/2006/relationships/image" Target="../media/image8.png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image" Target="../media/image13.png"/><Relationship Id="rId5" Type="http://schemas.openxmlformats.org/officeDocument/2006/relationships/slide" Target=""/><Relationship Id="rId6" Type="http://schemas.openxmlformats.org/officeDocument/2006/relationships/image" Target="../media/image13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12.png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image" Target="../media/image13.png"/><Relationship Id="rId5" Type="http://schemas.openxmlformats.org/officeDocument/2006/relationships/slide" Target=""/><Relationship Id="rId6" Type="http://schemas.openxmlformats.org/officeDocument/2006/relationships/image" Target="../media/image13.png"/><Relationship Id="rId7" Type="http://schemas.openxmlformats.org/officeDocument/2006/relationships/slide" Target="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628640"/>
            <a:ext cx="80769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What is a run-on senten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How to fix a run-on sent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Make two separate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Make one sent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 action="ppaction://hlinksldjump"/>
              </a:rPr>
              <a:t>Review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7" action="ppaction://hlinksldjump"/>
              </a:rPr>
              <a:t>Review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rrecting Run-on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2158920"/>
            <a:ext cx="7886520" cy="85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rcos is a musician, his favorite instrument is th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rump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519120" y="3498840"/>
            <a:ext cx="7886520" cy="5184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arcos is a musicia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19120" y="4267080"/>
            <a:ext cx="7886520" cy="51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His favorite instrument is the trump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530360"/>
            <a:ext cx="7886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the complete sentences in the run-ons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462880" y="386712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54080" y="224784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133880" y="224640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45680" y="2585880"/>
            <a:ext cx="135000" cy="33048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892680" y="2270160"/>
            <a:ext cx="134640" cy="330120"/>
          </a:xfrm>
          <a:custGeom>
            <a:avLst/>
            <a:gdLst>
              <a:gd name="textAreaLeft" fmla="*/ 39960 w 134640"/>
              <a:gd name="textAreaRight" fmla="*/ 135360 w 13464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33520" y="112068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2160720"/>
            <a:ext cx="7886520" cy="51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cart can tip over it should not be overload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530360"/>
            <a:ext cx="7886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the complete sentences in the run-ons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106880" y="2279520"/>
            <a:ext cx="114120" cy="33048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54080" y="225756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904560" y="223524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989120" y="2287440"/>
            <a:ext cx="135000" cy="33048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520" y="112068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520" y="3495600"/>
            <a:ext cx="7886520" cy="5184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cart can tip ov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4264200"/>
            <a:ext cx="7886520" cy="51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t should not be overload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8477280" y="38638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2155680"/>
            <a:ext cx="7886520" cy="51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wans live in the lake it is their favorite place to swi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530360"/>
            <a:ext cx="7886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the complete sentences in the run-ons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210200" y="225432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225576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024440" y="2262240"/>
            <a:ext cx="134640" cy="330120"/>
          </a:xfrm>
          <a:custGeom>
            <a:avLst/>
            <a:gdLst>
              <a:gd name="textAreaLeft" fmla="*/ 39960 w 134640"/>
              <a:gd name="textAreaRight" fmla="*/ 135360 w 13464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355040" y="257976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20" y="112068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3520" y="3495600"/>
            <a:ext cx="7886520" cy="51840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Swans live in the lak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4264200"/>
            <a:ext cx="7886520" cy="518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t is their favorite place to swi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477280" y="38638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000">
    <p:wipe dir="r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057320"/>
            <a:ext cx="219384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528480" y="1463760"/>
            <a:ext cx="8082000" cy="294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Identify the following items as correct sentences (C) or run-ons (R)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1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fter school I feed the gerbils Kerry takes care of the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fis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2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crab hurried into the water because it had seen a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large bird nearb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3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Coach Mendez runs difficult practices, her team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usually win their g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05732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95640" y="541008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>
            <a:hlinkClick r:id="rId4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>
            <a:hlinkClick r:id="rId5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057320"/>
            <a:ext cx="155412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528480" y="1463760"/>
            <a:ext cx="7891560" cy="324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Identify the following items as correct sentences (C) or run-ons (R)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1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fter school I feed the gerbils Kerry takes care of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fis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2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crab hurried into the water because it had seen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 large bird nearb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___ 3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Coach Mendez runs difficult practices, her team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usually win their gam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696960" y="23302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105732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692280" y="3168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696960" y="400680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8528040" y="2670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8523360" y="353376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528480" y="10954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fix a run-on sentence, you need to do one of two thing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4270680" y="341964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556000" y="1714680"/>
            <a:ext cx="133200" cy="8856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982800" y="2243160"/>
            <a:ext cx="2554200" cy="3367080"/>
            <a:chOff x="982800" y="2243160"/>
            <a:chExt cx="2554200" cy="3367080"/>
          </a:xfrm>
        </p:grpSpPr>
        <p:sp>
          <p:nvSpPr>
            <p:cNvPr id="215" name=""/>
            <p:cNvSpPr/>
            <p:nvPr/>
          </p:nvSpPr>
          <p:spPr>
            <a:xfrm>
              <a:off x="1302840" y="224316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Verdana"/>
                </a:rPr>
                <a:t>Cut it apart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3"/>
            <a:srcRect l="0" t="0" r="0" b="18748"/>
            <a:stretch/>
          </p:blipFill>
          <p:spPr>
            <a:xfrm>
              <a:off x="982800" y="2781360"/>
              <a:ext cx="2554200" cy="28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5389560" y="2548080"/>
            <a:ext cx="2666880" cy="3107520"/>
            <a:chOff x="5389560" y="2548080"/>
            <a:chExt cx="2666880" cy="3107520"/>
          </a:xfrm>
        </p:grpSpPr>
        <p:sp>
          <p:nvSpPr>
            <p:cNvPr id="218" name=""/>
            <p:cNvSpPr/>
            <p:nvPr/>
          </p:nvSpPr>
          <p:spPr>
            <a:xfrm>
              <a:off x="5389560" y="51958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Verdana"/>
                </a:rPr>
                <a:t>Join it properly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4"/>
            <a:srcRect l="14999" t="44810" r="48745" b="9434"/>
            <a:stretch/>
          </p:blipFill>
          <p:spPr>
            <a:xfrm>
              <a:off x="5389560" y="2548080"/>
              <a:ext cx="2535120" cy="255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660840" y="54640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6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4000">
    <p:wipe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3009960" y="4356000"/>
            <a:ext cx="2479320" cy="1053720"/>
            <a:chOff x="3009960" y="4356000"/>
            <a:chExt cx="2479320" cy="1053720"/>
          </a:xfrm>
        </p:grpSpPr>
        <p:sp>
          <p:nvSpPr>
            <p:cNvPr id="223" name=""/>
            <p:cNvSpPr/>
            <p:nvPr/>
          </p:nvSpPr>
          <p:spPr>
            <a:xfrm>
              <a:off x="3009960" y="4356000"/>
              <a:ext cx="1177560" cy="533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009960" y="4876560"/>
              <a:ext cx="1177560" cy="5331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38200" y="4881600"/>
              <a:ext cx="1351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971800" y="3098880"/>
            <a:ext cx="251784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528480" y="10954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 you revise a run-on sentence depends on the relationship you want to show between the idea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418600" y="16970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434960" y="2343240"/>
            <a:ext cx="5637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6470640" y="2340000"/>
            <a:ext cx="995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1244520" y="4681440"/>
            <a:ext cx="843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2787480"/>
            <a:ext cx="2463840" cy="70380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as are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closely rel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5743440" y="2851200"/>
            <a:ext cx="2678400" cy="7142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ake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two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528480" y="5132520"/>
            <a:ext cx="2463840" cy="703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as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RE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equally import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3963960"/>
            <a:ext cx="2463840" cy="703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as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RE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closely rel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5742000" y="4527720"/>
            <a:ext cx="2678040" cy="7124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ake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one</a:t>
            </a: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477280" y="3419640"/>
            <a:ext cx="133200" cy="88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629280" y="13874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rategy 1: Make two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528480" y="194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reak a run-on into two separate sentences w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563400" y="3627360"/>
            <a:ext cx="5486400" cy="109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Kite building is an ancient art, the Chinese made the first kites around three thousand years ag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148440" y="48196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1960" y="3591000"/>
            <a:ext cx="5486400" cy="116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Kite building is an ancient art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he Chinese made the first kites around three thousand years ag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8537400" y="220032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33520" y="2486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Aft>
                <a:spcPts val="1500"/>
              </a:spcAft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ideas are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closely related 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032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Aft>
                <a:spcPts val="1500"/>
              </a:spcAft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t least one sentence is long or 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6581880" y="27590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7419960" y="33163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6572160" y="3608280"/>
            <a:ext cx="1849680" cy="223848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r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629280" y="13874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rategy 1: Make two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28480" y="194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make two separate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528480" y="4492800"/>
            <a:ext cx="7818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Sally Ride was the first American woman in space she was a member of a shuttle cre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477280" y="52671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33520" y="2486160"/>
            <a:ext cx="5541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Aft>
                <a:spcPts val="1500"/>
              </a:spcAft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ut an end mark after the first complete sent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Aft>
                <a:spcPts val="1500"/>
              </a:spcAft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n, capitalize the first word of the next complete sent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934240" y="40100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5807160" y="21877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520" y="614988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19120" y="4486320"/>
            <a:ext cx="78184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Sally Ride was the first American woman in space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. S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e was a member of a space shuttle crew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6669000" y="1706400"/>
            <a:ext cx="1741680" cy="263376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rId8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9000">
    <p:wipe dir="r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533520" y="1397160"/>
            <a:ext cx="775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the following run-on sentences by making two separate sentenc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33520" y="14223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0280" y="22352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ffff99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y sister takes dance lessons, she has taught me the two-step and the waltz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124080"/>
            <a:ext cx="691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ffff99"/>
              </a:buClr>
              <a:buFont typeface="Verdana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r. Ortiz is our science teacher he organizes the Earth Day festival every ye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4067280"/>
            <a:ext cx="68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July Fourth celebration was fun everyone especially enjoyed the fireworks dis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78720" y="234936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78720" y="323532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78720" y="4181400"/>
            <a:ext cx="1030320" cy="420840"/>
          </a:xfrm>
          <a:prstGeom prst="rect">
            <a:avLst/>
          </a:prstGeom>
          <a:ln w="0">
            <a:noFill/>
          </a:ln>
        </p:spPr>
      </p:pic>
    </p:spTree>
  </p:cSld>
  <p:transition advTm="4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70400" y="3586320"/>
            <a:ext cx="3071880" cy="2047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095480"/>
            <a:ext cx="7886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eresa is reading her teacher’s comments on the first draft of an essa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519120" y="2660760"/>
            <a:ext cx="3340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Good use of examp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187720"/>
            <a:ext cx="3325680" cy="3988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rength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965400"/>
            <a:ext cx="3303360" cy="3988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as for improvem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473720"/>
            <a:ext cx="33256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void run-on senten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483760" y="18223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936960" y="337968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9120" y="3154320"/>
            <a:ext cx="3340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Clear organ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990960" y="4754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02280" y="2054160"/>
            <a:ext cx="2611440" cy="1409760"/>
          </a:xfrm>
          <a:prstGeom prst="cloudCallout">
            <a:avLst>
              <a:gd name="adj1" fmla="val -52796"/>
              <a:gd name="adj2" fmla="val 72523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528480" y="3381480"/>
            <a:ext cx="78868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sister takes dance lessons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. Sh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has taught me the two-step and the waltz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1397160"/>
            <a:ext cx="775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the following run-on sentences by making two separate sentenc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33520" y="14223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28480" y="2308320"/>
            <a:ext cx="789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ffff99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y sister takes dance lessons, she has taught me the two-step and the waltz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528480" y="3381480"/>
            <a:ext cx="7874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r. Ortiz is our science teacher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. H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e organizes the Earth Day festival every yea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397160"/>
            <a:ext cx="775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the following run-on sentences by making two separate sentenc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33520" y="14223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33520" y="2346480"/>
            <a:ext cx="78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ffff99"/>
              </a:buClr>
              <a:buFont typeface="Verdana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r. Ortiz is our science teacher he organizes the Earth Day festival every ye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28480" y="23353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July Fourth celebration was fun everyone especially enjoyed the fireworks displa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528480" y="338148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July Fourth celebration was fun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. E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veryone especially enjoyed the fireworks displa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97160"/>
            <a:ext cx="775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the following run-on sentences by making two separate sentenc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33520" y="14223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1387440"/>
            <a:ext cx="219384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528480" y="1793880"/>
            <a:ext cx="8082000" cy="324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Revise the following run-on sentences by making two separate sentences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We had a big anniversary party for my grandparents,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y have been married 45 yea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Japanese restaurant is popular it serves crowds of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hungry diners every nigh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In the summertime that bush has purple flowers the bee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nd butterflies are attracted to i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38744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95640" y="541008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>
            <a:hlinkClick r:id="rId4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>
            <a:hlinkClick r:id="rId5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33520" y="1400040"/>
            <a:ext cx="1554120" cy="9018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528480" y="1806480"/>
            <a:ext cx="789156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spcAft>
                <a:spcPts val="624"/>
              </a:spcAft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We had a big anniversary party for my grandparent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hey have been married 45 yea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400040"/>
            <a:ext cx="14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two separate sent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528040" y="2454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523360" y="3368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28480" y="2733840"/>
            <a:ext cx="789156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spcAft>
                <a:spcPts val="624"/>
              </a:spcAft>
              <a:buClr>
                <a:srgbClr val="3300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Japanese restaurant is popular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 serves crowds of hungry diners every nigh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519120" y="3613320"/>
            <a:ext cx="7891560" cy="86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250"/>
              </a:spcBef>
              <a:spcAft>
                <a:spcPts val="624"/>
              </a:spcAft>
              <a:buClr>
                <a:srgbClr val="330066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In the summertime that bush has purple flower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he bees and butterflies are attracted to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5000">
    <p:wipe dir="r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528480" y="138744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rategy 2: Make one sent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528480" y="194148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en the complete thoughts in a run-on sentence are closely related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n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f equal importance, you may want to attach them properly to make one correct sent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3200" y="6149880"/>
            <a:ext cx="590400" cy="3398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3260880" y="3808440"/>
            <a:ext cx="3144600" cy="208260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rId5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>
            <a:hlinkClick r:id="rId6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000">
    <p:wipe dir="r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69720" y="2496960"/>
            <a:ext cx="2482920" cy="3414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al Says..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260880" y="1511280"/>
            <a:ext cx="5451480" cy="1596960"/>
          </a:xfrm>
          <a:prstGeom prst="wedgeRoundRectCallout">
            <a:avLst>
              <a:gd name="adj1" fmla="val -66189"/>
              <a:gd name="adj2" fmla="val 46324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f the ideas in a run-on sentence aren’t </a:t>
            </a: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BOTH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closely related </a:t>
            </a: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AND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also of equal importance, find another way to fix the run-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913120" y="3565440"/>
            <a:ext cx="51591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 drove for hours, both dogs slept most of the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2913120" y="317664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Run-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2914560" y="4856040"/>
            <a:ext cx="51595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375"/>
              </a:spcAft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 drove for hours. Both dogs slept most of the ti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2914560" y="444492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Revi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rcRect l="0" t="0" r="0" b="976"/>
          <a:stretch/>
        </p:blipFill>
        <p:spPr>
          <a:xfrm>
            <a:off x="5816520" y="4365720"/>
            <a:ext cx="2130480" cy="15825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rcRect l="0" t="0" r="0" b="29980"/>
          <a:stretch/>
        </p:blipFill>
        <p:spPr>
          <a:xfrm>
            <a:off x="3701880" y="4368960"/>
            <a:ext cx="1673280" cy="15620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528480" y="1886040"/>
            <a:ext cx="8182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You can attach the two parts of a run-on sentence properly by using a comma and a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coordinating conjunction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519120" y="3341520"/>
            <a:ext cx="7891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She watered the plants regularly they became green and beautifu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519120" y="3313080"/>
            <a:ext cx="7891560" cy="886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She watered the plants regularly</a:t>
            </a: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 and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y became green and beautifu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2709720" y="2865600"/>
            <a:ext cx="133560" cy="885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28480" y="138744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rategy 2: Make one sent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861840" y="4368960"/>
            <a:ext cx="2399040" cy="15699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39760" y="6178680"/>
            <a:ext cx="1622520" cy="3394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8531280" y="40687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87280" y="6172200"/>
            <a:ext cx="590760" cy="3398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12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>
            <a:hlinkClick r:id="rId13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8000">
    <p:wipe dir="r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3520" y="3762360"/>
            <a:ext cx="78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ordinating conjunctio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joins words or groups of words that are used in the same w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2143080" y="1498680"/>
          <a:ext cx="5082840" cy="1787400"/>
        </p:xfrm>
        <a:graphic>
          <a:graphicData uri="http://schemas.openxmlformats.org/drawingml/2006/table">
            <a:tbl>
              <a:tblPr/>
              <a:tblGrid>
                <a:gridCol w="1270440"/>
                <a:gridCol w="1271160"/>
                <a:gridCol w="1270800"/>
                <a:gridCol w="1270440"/>
              </a:tblGrid>
              <a:tr h="554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Coordinating Conj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b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f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n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y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33520" y="1798560"/>
            <a:ext cx="2966760" cy="40816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al Says..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203640" y="1359000"/>
            <a:ext cx="5149800" cy="1276200"/>
          </a:xfrm>
          <a:prstGeom prst="wedgeRoundRectCallout">
            <a:avLst>
              <a:gd name="adj1" fmla="val -76296"/>
              <a:gd name="adj2" fmla="val 60074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mnemonic FANBOYS can help you remember the coordinating conjunct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516480" y="2851200"/>
            <a:ext cx="2117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095480"/>
            <a:ext cx="7927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run-on sent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wo or more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complete sentences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 run together as one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917880"/>
            <a:ext cx="78674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eahorses are actually fish they have fins and gill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537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63880"/>
            <a:ext cx="78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un-on sentences can be confusing because they do not show where one idea ends and another one begi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632560" y="1708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514600" y="29908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4633920"/>
            <a:ext cx="78706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me seahorses are partly transparent, you might not see them in an aquari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33520" y="138924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each of the following run-on sentences by turning it into one correct sente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30280" y="2387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y brother drove us to band practice, my mom drove us h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3359160"/>
            <a:ext cx="68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dog looked like a stray to me I took him home and called the animal shel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519120" y="4346640"/>
            <a:ext cx="685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any deserts have no plants some desert areas support a variety of plant lif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78720" y="250200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578720" y="359100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78720" y="468936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28480" y="2387520"/>
            <a:ext cx="808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y brother drove us to band practice, my mom drove us h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528480" y="347976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brother drove us to band practice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and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mom drove us ho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38924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each of the following run-on sentences by turning it into one correct sente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28480" y="347976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dog looked like a stray to me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so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took him home and called the animal shel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528480" y="23842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dog looked like a stray to me I took him home and called the animal shel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138924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each of the following run-on sentences by turning it into one correct sente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19120" y="339552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ny deserts have no plants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but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me desert areas support a variety of plant lif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528480" y="23842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any deserts have no plants some desert areas support a variety of plant lif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1434960"/>
            <a:ext cx="1622160" cy="339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138924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Fix each of the following run-on sentences by turning it into one correct sente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6095880"/>
            <a:ext cx="1287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1387440"/>
            <a:ext cx="219384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528480" y="1793880"/>
            <a:ext cx="8082000" cy="313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ke each of the following run-on sentences into a single correct sentence. Be prepared to explain your answ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Lee plays basketball he is also on the tennis tea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s. McIntire tried to grow tomatoes most of them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re eaten by bu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omorrow we can walk to the beach, we can go to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 movie if it rains.</a:t>
            </a:r>
            <a:r>
              <a:rPr b="1" lang="en-US" sz="2200" spc="-1" strike="noStrike">
                <a:solidFill>
                  <a:srgbClr val="330066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138744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363920" y="547380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7000">
    <p:wipe dir="r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33520" y="1387440"/>
            <a:ext cx="2724120" cy="7239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1387440"/>
            <a:ext cx="28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Possible 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528480" y="179388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Lee plays basketball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and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he is also on the tennis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eam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365040"/>
            <a:ext cx="807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How to fix a run-on sent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Make one sent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528480" y="277956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s. McIntire tried to grow tomatoes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but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most of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m were eaten by bug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528480" y="3760920"/>
            <a:ext cx="789156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spcAft>
                <a:spcPts val="68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omorrow we can walk to the beach</a:t>
            </a:r>
            <a:r>
              <a:rPr b="1" lang="en-US" sz="2600" spc="-1" strike="noStrike">
                <a:solidFill>
                  <a:srgbClr val="ff9900"/>
                </a:solidFill>
                <a:latin typeface="Verdana"/>
              </a:rPr>
              <a:t>, or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we can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go to a movie if it rains.</a:t>
            </a:r>
            <a:r>
              <a:rPr b="1" lang="en-US" sz="22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8543880" y="25401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8543880" y="352584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"/>
          <p:cNvSpPr/>
          <p:nvPr/>
        </p:nvSpPr>
        <p:spPr>
          <a:xfrm>
            <a:off x="528480" y="1095480"/>
            <a:ext cx="8055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the following items as correct sentences (C) or run-ons (R)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1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aturn is a huge planet, it is more than nine times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arger than Ear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2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ome of the clouds on Saturn are yellow, others are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ff-wh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3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aturn has about twenty moons Titan is the larg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4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You can use a telescope to view Saturn, or you can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it a planetari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5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rings of Saturn are less than two miles thick,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y spread out from the planet for a great dist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363920" y="547380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528480" y="1095480"/>
            <a:ext cx="8055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y the following items as correct sentences (C) or run-ons (R)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1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aturn is a huge planet, it is more than nine times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arger than Ear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2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ome of the clouds on Saturn are yellow, others are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ff-whi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3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aturn has about twenty moons Titan is the larg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4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You can use a telescope to view Saturn, or you can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it a planetari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 5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rings of Saturn are less than two miles thick,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y spread out from the planet for a great dist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>
            <a:off x="696960" y="18478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692280" y="38419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696960" y="262260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"/>
          <p:cNvSpPr/>
          <p:nvPr/>
        </p:nvSpPr>
        <p:spPr>
          <a:xfrm>
            <a:off x="696960" y="33847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696960" y="46195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070520" y="23763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3127320" y="31399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8477280" y="35654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4297320" y="432576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528480" y="1095480"/>
            <a:ext cx="8055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vise each run-on sentence by (1) making two separate sentences or (2) attaching the ideas to make one correct  sentence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Louvre is the largest museum in the world it is also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ne of the old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King Francis I wanted to support the arts, he bought the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99"/>
                </a:solidFill>
                <a:latin typeface="Verdana"/>
              </a:rPr>
              <a:t>Mona Lisa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for the Louv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3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ther French kings made additions the collections gr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4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Louvre is now a state-owned museum new pieces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either bought by the museum or received as gif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363920" y="547380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1701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3425400" y="30416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528480" y="1095480"/>
            <a:ext cx="80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Revise each run-on sentence by (1) making two separate sentences or (2) attaching the ideas to make one correct  sentence. Be prepared to explain your answ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528480" y="2162160"/>
            <a:ext cx="790920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Louvre is the largest museum in the world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. I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 i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also one of the old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"/>
          <p:cNvSpPr/>
          <p:nvPr/>
        </p:nvSpPr>
        <p:spPr>
          <a:xfrm>
            <a:off x="528480" y="2936880"/>
            <a:ext cx="790920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King Francis I wanted to support the art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so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 he bought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330066"/>
                </a:solidFill>
                <a:latin typeface="Verdana"/>
              </a:rPr>
              <a:t>Mona Lisa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 for the Louv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528480" y="3711600"/>
            <a:ext cx="790920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Other French kings made addition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and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 the collection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grew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528480" y="4486320"/>
            <a:ext cx="7909200" cy="76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Louvre is now a state-owned museum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. N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ew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pieces are either bought by the museum or received as 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gif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8664480" y="27846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8664480" y="35971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8664480" y="435924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533520" y="650880"/>
            <a:ext cx="2720880" cy="431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650880"/>
            <a:ext cx="28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Possible 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1095480"/>
            <a:ext cx="79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plet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group of words that contains a subject and a verb and expresses a complete though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75160" y="20257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184760" y="24703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528480" y="2909880"/>
            <a:ext cx="421488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skies became cloud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27040" y="4295880"/>
            <a:ext cx="481500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rtin soon left the b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2291760" y="246528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575280" y="39196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2304360" y="390204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Verdana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519120" y="2906640"/>
            <a:ext cx="421632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skies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became cloud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519120" y="2895480"/>
            <a:ext cx="42321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skies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becam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cloud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519120" y="4308480"/>
            <a:ext cx="480852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Martin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soon left</a:t>
            </a:r>
            <a:r>
              <a:rPr b="0" lang="en-US" sz="22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b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519120" y="4302000"/>
            <a:ext cx="480708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rtin soon 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left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the b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940280" y="32209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940280" y="32209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940280" y="32209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500800" y="45975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5487840" y="45864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5803920" y="2211480"/>
            <a:ext cx="2806560" cy="2049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rcRect l="0" t="14999" r="23105" b="0"/>
          <a:stretch/>
        </p:blipFill>
        <p:spPr>
          <a:xfrm>
            <a:off x="6446880" y="2514600"/>
            <a:ext cx="1882800" cy="2847960"/>
          </a:xfrm>
          <a:prstGeom prst="rect">
            <a:avLst/>
          </a:prstGeom>
          <a:ln w="0">
            <a:noFill/>
          </a:ln>
        </p:spPr>
      </p:pic>
    </p:spTree>
  </p:cSld>
  <p:transition advTm="1000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533520" y="303228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rcRect l="0" t="2131" r="0" b="667"/>
          <a:stretch/>
        </p:blipFill>
        <p:spPr>
          <a:xfrm>
            <a:off x="4381560" y="4041720"/>
            <a:ext cx="1306440" cy="190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0" t="0" r="11501" b="0"/>
          <a:stretch/>
        </p:blipFill>
        <p:spPr>
          <a:xfrm>
            <a:off x="1185840" y="3860640"/>
            <a:ext cx="2757600" cy="2078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84480"/>
            <a:ext cx="77594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eahorses are actually fish they have fins and gill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2900520"/>
            <a:ext cx="77389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me seahorses are partly transparent, you might not see them in an aquari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528480" y="109548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ere are the complete sentences in the examples below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58720" y="2252520"/>
            <a:ext cx="114480" cy="33048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460760" y="222732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7666200" y="2227320"/>
            <a:ext cx="104760" cy="330120"/>
          </a:xfrm>
          <a:custGeom>
            <a:avLst/>
            <a:gdLst>
              <a:gd name="textAreaLeft" fmla="*/ 0 w 104760"/>
              <a:gd name="textAreaRight" fmla="*/ 73440 w 10476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297320" y="2239920"/>
            <a:ext cx="104760" cy="330120"/>
          </a:xfrm>
          <a:custGeom>
            <a:avLst/>
            <a:gdLst>
              <a:gd name="textAreaLeft" fmla="*/ 0 w 104760"/>
              <a:gd name="textAreaRight" fmla="*/ 73440 w 10476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57040" y="3282840"/>
            <a:ext cx="135000" cy="33048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6242040" y="2946240"/>
            <a:ext cx="114480" cy="33048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94012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031080" y="2965320"/>
            <a:ext cx="134640" cy="330480"/>
          </a:xfrm>
          <a:custGeom>
            <a:avLst/>
            <a:gdLst>
              <a:gd name="textAreaLeft" fmla="*/ 39960 w 134640"/>
              <a:gd name="textAreaRight" fmla="*/ 135360 w 13464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7040" y="6111720"/>
            <a:ext cx="590400" cy="339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021360" y="4033800"/>
            <a:ext cx="1238400" cy="190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8494560" y="2498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8477280" y="35751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rId9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>
            <a:hlinkClick r:id="rId10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000"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1973160"/>
            <a:ext cx="2840040" cy="3907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al Says..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03640" y="1359000"/>
            <a:ext cx="5408640" cy="1492200"/>
          </a:xfrm>
          <a:prstGeom prst="wedgeRoundRectCallout">
            <a:avLst>
              <a:gd name="adj1" fmla="val -75037"/>
              <a:gd name="adj2" fmla="val 44148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o spot run-ons, read your writing aloud. A natural pause in your voice usually marks the end of one thought and the beginning of ano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497400" y="3290760"/>
            <a:ext cx="46670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lifeguard saw a swimmer in trouble, he jumped into the w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078000" y="4168800"/>
            <a:ext cx="4992840" cy="642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You would pause after the word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trouble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because </a:t>
            </a:r>
            <a:r>
              <a:rPr b="0" i="1" lang="en-US" sz="1800" spc="-1" strike="noStrike">
                <a:solidFill>
                  <a:srgbClr val="ffff99"/>
                </a:solidFill>
                <a:latin typeface="Verdana"/>
              </a:rPr>
              <a:t>he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 starts a new though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596400" y="290520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un-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273880" y="386244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83040" y="4960800"/>
            <a:ext cx="46670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The lifeguard saw a swimmer in trouble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. H</a:t>
            </a:r>
            <a:r>
              <a:rPr b="0" lang="en-US" sz="2000" spc="-1" strike="noStrike">
                <a:solidFill>
                  <a:srgbClr val="330066"/>
                </a:solidFill>
                <a:latin typeface="Verdana"/>
              </a:rPr>
              <a:t>e jumped into the w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-369" t="0" r="11501" b="0"/>
          <a:stretch/>
        </p:blipFill>
        <p:spPr>
          <a:xfrm>
            <a:off x="3206880" y="4138560"/>
            <a:ext cx="2387520" cy="1790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9120" y="2174760"/>
            <a:ext cx="808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s run-on sentence is an example of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fused sentence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ere is no punctuation between the two senten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414160" y="3521160"/>
            <a:ext cx="1752120" cy="45972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ntence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306320" y="3521160"/>
            <a:ext cx="1752120" cy="45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ntence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63960" y="31370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641520" y="1511280"/>
            <a:ext cx="78674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eahorses are actually fish they have fins and gill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90480" y="1558800"/>
            <a:ext cx="103320" cy="341280"/>
          </a:xfrm>
          <a:custGeom>
            <a:avLst/>
            <a:gdLst>
              <a:gd name="textAreaLeft" fmla="*/ 30240 w 103320"/>
              <a:gd name="textAreaRight" fmla="*/ 103680 w 103320"/>
              <a:gd name="textAreaTop" fmla="*/ 14040 h 341280"/>
              <a:gd name="textAreaBottom" fmla="*/ 327240 h 34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451400" y="1579680"/>
            <a:ext cx="104760" cy="330120"/>
          </a:xfrm>
          <a:custGeom>
            <a:avLst/>
            <a:gdLst>
              <a:gd name="textAreaLeft" fmla="*/ 0 w 104760"/>
              <a:gd name="textAreaRight" fmla="*/ 73440 w 10476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605480" y="157788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810560" y="1577880"/>
            <a:ext cx="104760" cy="330120"/>
          </a:xfrm>
          <a:custGeom>
            <a:avLst/>
            <a:gdLst>
              <a:gd name="textAreaLeft" fmla="*/ 0 w 104760"/>
              <a:gd name="textAreaRight" fmla="*/ 73440 w 10476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3182760" y="6121440"/>
            <a:ext cx="1251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19120" y="245736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is run-on sentence is an example of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ma splice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here is only a comma between the two senten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102760" y="4044960"/>
            <a:ext cx="1752120" cy="45972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ntence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833360" y="4044960"/>
            <a:ext cx="1752120" cy="45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entence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176720" y="3832200"/>
            <a:ext cx="3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54400" y="34099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6360" y="613728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511280"/>
            <a:ext cx="78706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me seahorses are partly transparent, you might not see them in an aquariu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296040" y="1566720"/>
            <a:ext cx="114120" cy="33048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224240" y="1922400"/>
            <a:ext cx="104760" cy="330120"/>
          </a:xfrm>
          <a:custGeom>
            <a:avLst/>
            <a:gdLst>
              <a:gd name="textAreaLeft" fmla="*/ 0 w 104760"/>
              <a:gd name="textAreaRight" fmla="*/ 73440 w 10476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600120" y="156384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122160" y="156384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66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>
            <a:hlinkClick r:id="rId5" action="ppaction://hlinksldjump"/>
          </p:cNvPr>
          <p:cNvSpPr/>
          <p:nvPr/>
        </p:nvSpPr>
        <p:spPr>
          <a:xfrm>
            <a:off x="4495680" y="6108840"/>
            <a:ext cx="1181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2000"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2158920"/>
            <a:ext cx="7108560" cy="85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arcos is a musician, his favorit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nstrument is the trump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138480"/>
            <a:ext cx="7108560" cy="85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cart can tip over it should not b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overload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111560"/>
            <a:ext cx="7108560" cy="85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wans live in the lake it is their favorite plac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o swi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530360"/>
            <a:ext cx="7886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the complete sentences in the run-ons below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3520" y="1120680"/>
            <a:ext cx="1622160" cy="339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69160" y="235260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58000" y="340992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69160" y="43959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at is a run-on sentence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4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1:43:20Z</dcterms:created>
  <dc:creator>SJW</dc:creator>
  <dc:description/>
  <dc:language>en-US</dc:language>
  <cp:lastModifiedBy>HMCo</cp:lastModifiedBy>
  <dcterms:modified xsi:type="dcterms:W3CDTF">2010-04-01T14:29:16Z</dcterms:modified>
  <cp:revision>545</cp:revision>
  <dc:subject/>
  <dc:title>Correcting Run-on Sentences</dc:title>
</cp:coreProperties>
</file>